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251F-7098-4D8B-AFCB-A5B74A7E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C165-5C42-48E1-83B5-AD8A5FBE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3215-BC5C-49BD-AE52-B2D3E3B3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5603-27B7-479B-A022-DAAC0163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1452-5380-450D-BBDE-B46C1104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A97D-4F5A-41C1-808F-4CC555AA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54D8-1228-4335-A9C4-C3514AD9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DFEB-D6ED-45C1-A2FB-1D7EB2AD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9F8B-8E78-4395-9844-EE703F06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8764-4E9A-432D-9CAA-F897DC0C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8E08-388C-4657-A135-B2016FFA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B009-0595-45BF-B2D6-07EC1D65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8E62-4AC7-4AFA-9245-AC05FE5C8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6.4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-Slope Form and Writing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18288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ing Point-Slop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2895480"/>
            <a:ext cx="7086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int-Slope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 –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0" lang="en-US" sz="36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X –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0" lang="en-US" sz="36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6.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y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286000"/>
            <a:ext cx="61722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of the da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equation of the l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, 7)   (1, -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, -8)    (-2,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762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427040" cy="1752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048120" y="1447920"/>
            <a:ext cx="3994200" cy="1665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971800" y="3505320"/>
            <a:ext cx="5867280" cy="277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124080" y="3962520"/>
            <a:ext cx="5334120" cy="3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6095880" cy="816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1733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16256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81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" y="6019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91540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7631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609480"/>
            <a:ext cx="70102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-2/3    (-2, -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3   (2,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371600"/>
            <a:ext cx="731520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¾     (-2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-2   (3, 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6.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990720"/>
            <a:ext cx="74674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of the da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equation of the l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-6, b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2/3,  b = 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2/3  (-6,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-2  (-2, -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830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25909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30492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equation of the line containing the points (-2, 6) and (4, 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114800" y="1295280"/>
            <a:ext cx="3581280" cy="1303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4572000" cy="1165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0" y="52578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ep 4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rit the equation in standard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9:33:43Z</dcterms:created>
  <dc:creator>Susannah Graham</dc:creator>
  <dc:description/>
  <dc:language>en-US</dc:language>
  <cp:lastModifiedBy>BRSD</cp:lastModifiedBy>
  <dcterms:modified xsi:type="dcterms:W3CDTF">2010-03-02T14:20:55Z</dcterms:modified>
  <cp:revision>9</cp:revision>
  <dc:subject/>
  <dc:title>Lesson 6.4 Point-Slope Form and Writing Equations</dc:title>
</cp:coreProperties>
</file>